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5F9A-15F3-4F99-AFEA-0104E6770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8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8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F995-63B0-4390-96CA-2A8E61354D0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E933A-7E69-42B0-A031-F459D241A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422E7-4E1E-46F7-8AB2-1CBDDD960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4A94A-D2B2-44BE-81F3-9EA133B94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32700-E5B2-4D31-9EC5-AC3449205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94329-2D7C-4886-B2D2-1114B90AC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B39F7-FF67-4A8F-9E20-9D6FCF7E3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BBB68-592D-4A1D-AB3D-F6C137971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1CDFD-D72A-4619-897C-18159DA5E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3F8A1-4977-4C5C-9DB9-5E1080595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87670-061F-4920-880C-2309446BD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101CE-AA55-4D54-BB1E-3D80503C5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12A2-6C1C-4053-BFF8-162FEAAE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DC1FE-F010-4A61-856B-3479F150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5E8B1-FF25-4AB8-A540-56659A34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A6FD7-9045-4265-82AD-320E330B5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151C9-3A85-4E9F-9EC2-C546B9339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5DD27-9AD7-436F-8D3C-7FD1B3F40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8C9A9-686E-4BED-9654-8BDB89445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971D-2BA6-4AF1-80A7-329894A84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5208-E94E-48C8-8668-54F1D62D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FAE2-51CD-4E98-A242-5C4CEAA27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94BD-6044-495D-8283-6C650F81D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4524-B45D-474C-B149-F81895220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7B965-F9D7-43E9-AB9C-C8F76E132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46CB-9128-4F40-90B4-A55A3BE3B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4879-DECB-4A38-B985-1AB781D5C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5639-19D7-4505-9DCC-F4BFF87AB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可转让公债和不可转让公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上市公债</a:t>
            </a:r>
            <a:r>
              <a:rPr b="0" lang="zh-CN" sz="2400" spc="-1" strike="noStrike">
                <a:solidFill>
                  <a:srgbClr val="000000"/>
                </a:solidFill>
                <a:latin typeface="楷体_GB2312"/>
              </a:rPr>
              <a:t>，是指能够在证券市场上自由流通买卖的公债。认购者可以根据资金需求和市场行情随时兑现公债或转让给他人，从而满足投资者的流动性要求，降低其机会成本，因此特别受欢迎。</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不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非上市公债</a:t>
            </a:r>
            <a:r>
              <a:rPr b="0" lang="zh-CN" sz="2400" spc="-1" strike="noStrike">
                <a:solidFill>
                  <a:srgbClr val="000000"/>
                </a:solidFill>
                <a:latin typeface="楷体_GB2312"/>
              </a:rPr>
              <a:t>，是指不能在证券市场上自由买卖的公债，只能由政府到期还本付息，由于其流动性差，投资的机会成本比较高，所以推销余地不大，在公债中所占比重较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DF11-1624-45B1-928A-46749B524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和地方政府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央政府公债的发行由中央政府决定，公债收入列入中央预算，由中央财政支配，还本付息由中央政府承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方政府公债由地方政府发行并偿还，公债收入列入地方预算，由地方政府支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F772-C852-4D55-9FFD-15006F6C4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其他分类方法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发行性质的差异，可以分为强制公债和自愿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利率的确定方式，可以分为固定利率公债、市场利率公债和保值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的计量单位，可以分为货币公债、实物公债、折实公债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3370-FE7D-4B50-8AE2-EE718E413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a:t>
            </a:r>
            <a:r>
              <a:rPr b="1" lang="en-US" sz="2400" spc="-1" strike="noStrike">
                <a:solidFill>
                  <a:srgbClr val="000000"/>
                </a:solidFill>
                <a:latin typeface="Arial"/>
              </a:rPr>
              <a:t>——</a:t>
            </a:r>
            <a:r>
              <a:rPr b="0" lang="zh-CN" sz="2400" spc="-1" strike="noStrike">
                <a:solidFill>
                  <a:srgbClr val="000000"/>
                </a:solidFill>
                <a:latin typeface="Arial"/>
              </a:rPr>
              <a:t>国库券是政府短期国债的最主要形式。期限有</a:t>
            </a: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a:t>
            </a:r>
            <a:r>
              <a:rPr b="0" lang="en-US" sz="2400" spc="-1" strike="noStrike">
                <a:solidFill>
                  <a:srgbClr val="000000"/>
                </a:solidFill>
                <a:latin typeface="Arial"/>
              </a:rPr>
              <a:t>12</a:t>
            </a:r>
            <a:r>
              <a:rPr b="0" lang="zh-CN" sz="2400" spc="-1" strike="noStrike">
                <a:solidFill>
                  <a:srgbClr val="000000"/>
                </a:solidFill>
                <a:latin typeface="Arial"/>
              </a:rPr>
              <a:t>个月。一般采取不记名形式，不按期计息，出售时按票面金额打折发行（即预扣利息），到期按面值还本。它面额多样，具有可靠性和高度流动性的特征，同时又是一种可以带来利润的资产。</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国库券是资金市场上（短期金融市场）上的主要流通工具，在货币和信贷资金的融通活动中占有重要地位。是政府用于调节季节性资金余缺的重要手段。</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的购买者主要有三类：中央银行、商业银行和个人。国库券是商业银行的主要投资对象和中央银行调节货币供给量的主要工具，发行国库券可以在很大程度上导致银行信用规模的扩张，对经济有一定扩张性或膨胀性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FC6C-A325-4CBB-9F6D-D0CC79D4F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规模</a:t>
            </a:r>
            <a:endParaRPr b="0" lang="en-US" sz="4400" spc="-1" strike="noStrike">
              <a:solidFill>
                <a:srgbClr val="cc3300"/>
              </a:solidFill>
              <a:latin typeface="Arial"/>
            </a:endParaRPr>
          </a:p>
        </p:txBody>
      </p:sp>
      <p:sp>
        <p:nvSpPr>
          <p:cNvPr id="1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绝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总额：政府现存而尚未清偿的债务总额。在没有短期公债的情况下，等于当年新债发行额与历年公债累计余额之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额：公债在某一年度的发行额。从政府收入角度衡量公债的数量。</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还本付息额：在某一年度内政府对公债的偿还额。从政府支出角度衡量债务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C331-3C1D-40CC-AC73-5E9283C26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负担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负担率</a:t>
            </a:r>
            <a:r>
              <a:rPr b="0" lang="en-US" sz="2400" spc="-1" strike="noStrike">
                <a:solidFill>
                  <a:srgbClr val="000000"/>
                </a:solidFill>
                <a:latin typeface="Arial"/>
              </a:rPr>
              <a:t>=</a:t>
            </a:r>
            <a:r>
              <a:rPr b="0" lang="zh-CN" sz="2400" spc="-1" strike="noStrike">
                <a:solidFill>
                  <a:srgbClr val="000000"/>
                </a:solidFill>
                <a:latin typeface="Arial"/>
              </a:rPr>
              <a:t>（当年公债余额</a:t>
            </a:r>
            <a:r>
              <a:rPr b="0" lang="en-US" sz="2400" spc="-1" strike="noStrike">
                <a:solidFill>
                  <a:srgbClr val="000000"/>
                </a:solidFill>
                <a:latin typeface="Arial"/>
              </a:rPr>
              <a:t>/</a:t>
            </a:r>
            <a:r>
              <a:rPr b="0" lang="zh-CN" sz="2400" spc="-1" strike="noStrike">
                <a:solidFill>
                  <a:srgbClr val="000000"/>
                </a:solidFill>
                <a:latin typeface="Arial"/>
              </a:rPr>
              <a:t>当年</a:t>
            </a:r>
            <a:r>
              <a:rPr b="0" lang="en-US" sz="2400" spc="-1" strike="noStrike">
                <a:solidFill>
                  <a:srgbClr val="000000"/>
                </a:solidFill>
                <a:latin typeface="Arial"/>
              </a:rPr>
              <a:t>GDP</a:t>
            </a:r>
            <a:r>
              <a:rPr b="0" lang="zh-CN" sz="2400" spc="-1" strike="noStrike">
                <a:solidFill>
                  <a:srgbClr val="000000"/>
                </a:solidFill>
                <a:latin typeface="Arial"/>
              </a:rPr>
              <a:t>）</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欧盟</a:t>
            </a:r>
            <a:r>
              <a:rPr b="0" lang="en-US" sz="2400" spc="-1" strike="noStrike">
                <a:solidFill>
                  <a:srgbClr val="000000"/>
                </a:solidFill>
                <a:latin typeface="楷体_GB2312"/>
              </a:rPr>
              <a:t>《</a:t>
            </a:r>
            <a:r>
              <a:rPr b="0" lang="zh-CN" sz="2400" spc="-1" strike="noStrike">
                <a:solidFill>
                  <a:srgbClr val="000000"/>
                </a:solidFill>
                <a:latin typeface="楷体_GB2312"/>
              </a:rPr>
              <a:t>马斯特里赫特条约</a:t>
            </a:r>
            <a:r>
              <a:rPr b="0" lang="en-US" sz="2400" spc="-1" strike="noStrike">
                <a:solidFill>
                  <a:srgbClr val="000000"/>
                </a:solidFill>
                <a:latin typeface="楷体_GB2312"/>
              </a:rPr>
              <a:t>》</a:t>
            </a:r>
            <a:r>
              <a:rPr b="0" lang="zh-CN" sz="2400" spc="-1" strike="noStrike">
                <a:solidFill>
                  <a:srgbClr val="000000"/>
                </a:solidFill>
                <a:latin typeface="楷体_GB2312"/>
              </a:rPr>
              <a:t>规定的标准为</a:t>
            </a:r>
            <a:r>
              <a:rPr b="0" lang="en-US" sz="2400" spc="-1" strike="noStrike">
                <a:solidFill>
                  <a:srgbClr val="000000"/>
                </a:solidFill>
                <a:latin typeface="楷体_GB2312"/>
              </a:rPr>
              <a:t>60%</a:t>
            </a:r>
            <a:r>
              <a:rPr b="0" lang="zh-CN" sz="2400" spc="-1" strike="noStrike">
                <a:solidFill>
                  <a:srgbClr val="000000"/>
                </a:solidFill>
                <a:latin typeface="楷体_GB2312"/>
              </a:rPr>
              <a:t>。一般说来，发达国家公债负担率最多不超过当年</a:t>
            </a:r>
            <a:r>
              <a:rPr b="0" lang="en-US" sz="2400" spc="-1" strike="noStrike">
                <a:solidFill>
                  <a:srgbClr val="000000"/>
                </a:solidFill>
                <a:latin typeface="楷体_GB2312"/>
              </a:rPr>
              <a:t>GDP</a:t>
            </a:r>
            <a:r>
              <a:rPr b="0" lang="zh-CN" sz="2400" spc="-1" strike="noStrike">
                <a:solidFill>
                  <a:srgbClr val="000000"/>
                </a:solidFill>
                <a:latin typeface="楷体_GB2312"/>
              </a:rPr>
              <a:t>的</a:t>
            </a:r>
            <a:r>
              <a:rPr b="0" lang="en-US" sz="2400" spc="-1" strike="noStrike">
                <a:solidFill>
                  <a:srgbClr val="000000"/>
                </a:solidFill>
                <a:latin typeface="楷体_GB2312"/>
              </a:rPr>
              <a:t>4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9105-3DD0-410E-80FD-BFF892FF6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依存度</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债务依存度</a:t>
            </a:r>
            <a:r>
              <a:rPr b="0" lang="en-US" sz="2400" spc="-1" strike="noStrike">
                <a:solidFill>
                  <a:srgbClr val="000000"/>
                </a:solidFill>
                <a:latin typeface="Arial"/>
              </a:rPr>
              <a:t>=</a:t>
            </a:r>
            <a:r>
              <a:rPr b="0" lang="zh-CN" sz="2400" spc="-1" strike="noStrike">
                <a:solidFill>
                  <a:srgbClr val="000000"/>
                </a:solidFill>
                <a:latin typeface="Arial"/>
              </a:rPr>
              <a:t>（当年债务收入额</a:t>
            </a:r>
            <a:r>
              <a:rPr b="0" lang="en-US" sz="2400" spc="-1" strike="noStrike">
                <a:solidFill>
                  <a:srgbClr val="000000"/>
                </a:solidFill>
                <a:latin typeface="Arial"/>
              </a:rPr>
              <a:t>/</a:t>
            </a:r>
            <a:r>
              <a:rPr b="0" lang="zh-CN" sz="2400" spc="-1" strike="noStrike">
                <a:solidFill>
                  <a:srgbClr val="000000"/>
                </a:solidFill>
                <a:latin typeface="Arial"/>
              </a:rPr>
              <a:t>当年财政支出额）</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一般存在一个较模糊的安全控制线，即不超过</a:t>
            </a:r>
            <a:r>
              <a:rPr b="0" lang="en-US" sz="2400" spc="-1" strike="noStrike">
                <a:solidFill>
                  <a:srgbClr val="000000"/>
                </a:solidFill>
                <a:latin typeface="楷体_GB2312"/>
              </a:rPr>
              <a:t>25%</a:t>
            </a:r>
            <a:r>
              <a:rPr b="0" lang="zh-CN" sz="2400" spc="-1" strike="noStrike">
                <a:solidFill>
                  <a:srgbClr val="000000"/>
                </a:solidFill>
                <a:latin typeface="楷体_GB2312"/>
              </a:rPr>
              <a:t>～</a:t>
            </a:r>
            <a:r>
              <a:rPr b="0" lang="en-US" sz="2400" spc="-1" strike="noStrike">
                <a:solidFill>
                  <a:srgbClr val="000000"/>
                </a:solidFill>
                <a:latin typeface="楷体_GB2312"/>
              </a:rPr>
              <a:t>3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4"/>
          <p:cNvSpPr/>
          <p:nvPr/>
        </p:nvSpPr>
        <p:spPr>
          <a:xfrm flipV="1">
            <a:off x="0" y="3140640"/>
            <a:ext cx="8604360" cy="9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EA69-D58C-4CD8-BE64-C90F5D737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偿债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偿债率</a:t>
            </a:r>
            <a:r>
              <a:rPr b="0" lang="en-US" sz="2400" spc="-1" strike="noStrike">
                <a:solidFill>
                  <a:srgbClr val="000000"/>
                </a:solidFill>
                <a:latin typeface="Arial"/>
              </a:rPr>
              <a:t>=</a:t>
            </a:r>
            <a:r>
              <a:rPr b="0" lang="zh-CN" sz="2400" spc="-1" strike="noStrike">
                <a:solidFill>
                  <a:srgbClr val="000000"/>
                </a:solidFill>
                <a:latin typeface="Arial"/>
              </a:rPr>
              <a:t>（还本付息额</a:t>
            </a:r>
            <a:r>
              <a:rPr b="0" lang="en-US" sz="2400" spc="-1" strike="noStrike">
                <a:solidFill>
                  <a:srgbClr val="000000"/>
                </a:solidFill>
                <a:latin typeface="Arial"/>
              </a:rPr>
              <a:t>/</a:t>
            </a:r>
            <a:r>
              <a:rPr b="0" lang="zh-CN" sz="2400" spc="-1" strike="noStrike">
                <a:solidFill>
                  <a:srgbClr val="000000"/>
                </a:solidFill>
                <a:latin typeface="Arial"/>
              </a:rPr>
              <a:t>财政收入）</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上公认的警戒线是</a:t>
            </a:r>
            <a:r>
              <a:rPr b="0" lang="en-US" sz="2400" spc="-1" strike="noStrike">
                <a:solidFill>
                  <a:srgbClr val="000000"/>
                </a:solidFill>
                <a:latin typeface="Arial"/>
              </a:rPr>
              <a:t>10%</a:t>
            </a:r>
            <a:r>
              <a:rPr b="0" lang="zh-CN" sz="2400" spc="-1" strike="noStrike">
                <a:solidFill>
                  <a:srgbClr val="000000"/>
                </a:solidFill>
                <a:latin typeface="Arial"/>
              </a:rPr>
              <a:t>左右。</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42D9-2D29-4A2F-9D01-46A7B1425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以公债筹资的效率界限</a:t>
            </a:r>
            <a:endParaRPr b="0" lang="en-US"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经常性支出的筹资方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资本性支出的筹资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03A9-AB70-4EEA-A5D6-D036F6910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筹资方式为社会选择提供了一种成本效益比较的权衡机制，有助于使社会决策受到资源配置效率的约束。</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筹资方式意味着延期的税收，把公共产品的受益和成本负担分割成不同时期，缺乏资源配置效率的约束。</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2A47-9B7F-417E-9221-4412FE08CF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十章  公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概述</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规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经济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市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79E6-3588-446C-98F5-F925FBB37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经常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部门支出中直接形成社会当前消费利益的支出被称为经常性支出。</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以公债筹资来承担当年的经常性支出，就意味着让现在的人无偿享受公共产品的利益，而让以后的人来承担公债偿还的责任，容易形成支出过度的倾向，偏离资源配置的效率目标。</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采用税收筹资，当前人享受支出利益同时也为此付出了代价，可以形成成本与收益的权衡机制。为了使公共产品的配置接近效率状态，政府部门的经常性支出原则上应采用税收方式筹资。</a:t>
            </a:r>
            <a:endParaRPr b="0" lang="en-US" sz="24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4756-0CC6-4217-AE49-484572F98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67616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资本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所产生的利益不仅在本期发挥作用，同时还在以后较长的一段时期内产生效益。</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用当年的税收来承担当年全部资本性支出，就等于要求让现在的人承担它的全部成本，而让以后的人无偿享受它带来的好处。从资源配置的角度来说，它会使公共产品的提供水平低于效率所要求的水平。</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中应由本期承担的部分原则上应通过税收方式来筹资，如果用公债的方式来垫付这一部分成本，实际上就是将本期的成本推给未来，这样会造成公共产品的受益人与成本承担人不一致，效率的权衡机制将受到损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392C-405B-4BCD-AE6F-AA051E920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228600" y="533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负担</a:t>
            </a:r>
            <a:endParaRPr b="0" lang="en-US" sz="4400" spc="-1" strike="noStrike">
              <a:solidFill>
                <a:srgbClr val="cc3300"/>
              </a:solidFill>
              <a:latin typeface="Arial"/>
            </a:endParaRPr>
          </a:p>
        </p:txBody>
      </p:sp>
      <p:sp>
        <p:nvSpPr>
          <p:cNvPr id="177" name="PlaceHolder 2"/>
          <p:cNvSpPr>
            <a:spLocks noGrp="1"/>
          </p:cNvSpPr>
          <p:nvPr>
            <p:ph/>
          </p:nvPr>
        </p:nvSpPr>
        <p:spPr>
          <a:xfrm>
            <a:off x="228600" y="1676160"/>
            <a:ext cx="8540640" cy="3886200"/>
          </a:xfrm>
          <a:prstGeom prst="rect">
            <a:avLst/>
          </a:prstGeom>
          <a:noFill/>
          <a:ln w="0">
            <a:noFill/>
          </a:ln>
        </p:spPr>
        <p:txBody>
          <a:bodyPr anchor="t">
            <a:normAutofit/>
          </a:bodyPr>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社会而言，公债过程是否构成负担取决于如何使用公债资金。如果这笔资金用于投资，在这段时期取得较好的经济效益，而且足以还本付息并有盈余，我们就认为公债非但没有造成负担，而且还改善了社会的福利状况。只有当借债的代价大于它所带来的效益时，我们才认为公债产生了负担。</a:t>
            </a:r>
            <a:endParaRPr b="0" lang="en-US" sz="2400" spc="-1" strike="noStrike">
              <a:solidFill>
                <a:srgbClr val="000000"/>
              </a:solidFill>
              <a:latin typeface="Arial"/>
            </a:endParaRPr>
          </a:p>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节所说的公债负担，不仅仅是指公债给整个社会带来的负担，即公债对效率（社会总福利）的影响，而且还从收入分配的角度，分析相对于税收而言，公债筹资对不同的社会群体所产生的影响，，特别是不同年龄层次的社会群体的影响，这也就是我们通常所说的公债的代际负担。</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5FA6-A1EB-4169-B46F-823FC244C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代际负担</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当代人的债务负担转移给后代人，或者说当代人把应当承担的公共产品的成本转移给后代人承担。</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有可能使公债过程中的受益者和本息的承担者分属于不同的时期。由于公债的用途不同，对收入分配的影响也不同。</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发行是否引起代际负担，应当视政府会采取哪一类型的筹资来源和投资方向而定，不能一概而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2790-08E5-48CC-AE7F-1F2ED5D09B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5"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用于消费性支出</a:t>
            </a:r>
            <a:endParaRPr b="0" lang="en-US" sz="28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政府部门公债用于本期的消费性支出，而本期税收承担偿还这笔债务的责任，那么，公债过程将未来人的利益转移给现在人。</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未来社会的整体看，还本付息只是其中的一些人缴纳税款，政府再将这些款项支付给公债持有者，这是一个社会内部的利益转移，还本付息本身并不给未来社会的整体造成负担。</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未来一代的真正负担在于公债使得未来人失去了一项可以不断创造出收入的资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13A6-E531-4BAA-95D7-000C5B3435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用于投资性支出</a:t>
            </a:r>
            <a:endParaRPr b="0" lang="en-US" sz="32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用于公共部门的投资性支出是否会造成代际负担呢取决于公共部门与私人部门之间投资收益率的比较。</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公共企部门的投资收益率高于它所挤出的私人企业部门的投资收益率，则公债不仅不会给后代造成负担，反而会提高未来社会的福利。</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投资项目的收益率低于它所排挤的私人部门的投资收益率，未来社会可继承的资产价值小于将这笔资金用于私人部门投资。这时，公债就给后代造成了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4B59-9AEC-45D3-8571-90CE7801B7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理论的发展</a:t>
            </a:r>
            <a:endParaRPr b="0" lang="en-US" sz="4400" spc="-1" strike="noStrike">
              <a:solidFill>
                <a:srgbClr val="cc3300"/>
              </a:solidFill>
              <a:latin typeface="Arial"/>
            </a:endParaRPr>
          </a:p>
        </p:txBody>
      </p:sp>
      <p:sp>
        <p:nvSpPr>
          <p:cNvPr id="193"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早期较流行的公债有害的观点，再到后来承认公债有利有弊的两重理论，直至凯恩斯主义盛行时代的公债无害论，人们对于公债范畴的认识不断加深，对公债的评价也变得更为客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2C80-586B-4C8A-86B0-03BAE70319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a:t>
            </a:r>
            <a:r>
              <a:rPr b="0" lang="zh-CN" sz="3200" spc="-1" strike="noStrike">
                <a:solidFill>
                  <a:srgbClr val="000000"/>
                </a:solidFill>
                <a:latin typeface="Arial"/>
              </a:rPr>
              <a:t>世纪英国的休漠</a:t>
            </a:r>
            <a:r>
              <a:rPr b="0" lang="en-US" sz="3200" spc="-1" strike="noStrike">
                <a:solidFill>
                  <a:srgbClr val="000000"/>
                </a:solidFill>
                <a:latin typeface="Times New Roman"/>
              </a:rPr>
              <a:t>(Hume, D.)</a:t>
            </a:r>
            <a:r>
              <a:rPr b="0" lang="zh-CN" sz="3200" spc="-1" strike="noStrike">
                <a:solidFill>
                  <a:srgbClr val="000000"/>
                </a:solidFill>
                <a:latin typeface="Arial"/>
              </a:rPr>
              <a:t>认为，“如果不消灭公债，公债必然消灭国家”，他主张政府任何时候都不应举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斯密</a:t>
            </a:r>
            <a:r>
              <a:rPr b="0" lang="en-US" sz="3200" spc="-1" strike="noStrike">
                <a:solidFill>
                  <a:srgbClr val="000000"/>
                </a:solidFill>
                <a:latin typeface="Times New Roman"/>
              </a:rPr>
              <a:t>(Smith, A.)</a:t>
            </a:r>
            <a:r>
              <a:rPr b="0" lang="zh-CN" sz="3200" spc="-1" strike="noStrike">
                <a:solidFill>
                  <a:srgbClr val="000000"/>
                </a:solidFill>
                <a:latin typeface="Arial"/>
              </a:rPr>
              <a:t>和李嘉图</a:t>
            </a:r>
            <a:r>
              <a:rPr b="0" lang="en-US" sz="3200" spc="-1" strike="noStrike">
                <a:solidFill>
                  <a:srgbClr val="000000"/>
                </a:solidFill>
                <a:latin typeface="Times New Roman"/>
              </a:rPr>
              <a:t>(Ricardo, D.)</a:t>
            </a:r>
            <a:r>
              <a:rPr b="0" lang="zh-CN" sz="3200" spc="-1" strike="noStrike">
                <a:solidFill>
                  <a:srgbClr val="000000"/>
                </a:solidFill>
                <a:latin typeface="Arial"/>
              </a:rPr>
              <a:t>等均持有类似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057D-F448-4D3A-A17A-E75B42CB8B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穆勒</a:t>
            </a:r>
            <a:r>
              <a:rPr b="0" lang="en-US" sz="3200" spc="-1" strike="noStrike">
                <a:solidFill>
                  <a:srgbClr val="000000"/>
                </a:solidFill>
                <a:latin typeface="Times New Roman"/>
              </a:rPr>
              <a:t>(Mill, J.)</a:t>
            </a:r>
            <a:r>
              <a:rPr b="0" lang="zh-CN" sz="3200" spc="-1" strike="noStrike">
                <a:solidFill>
                  <a:srgbClr val="000000"/>
                </a:solidFill>
                <a:latin typeface="Arial"/>
              </a:rPr>
              <a:t>和瓦格纳提出了公债的两重理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们承认公债有利有弊，应从公债的资金来源和使用方向具体分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观点为现代公债理论奠定了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D9D8-4FC0-4671-A779-A7CD4C569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凯恩斯主义盛行的时代，公债无害的理论广为流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学派将公债视为政府干预经济的手段，认为在有效需求不足的情况下，发行公债可以扩大财政支出，增加就业机会，使经济稳定增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2ACD-DB03-43B7-B006-E047145C3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概述</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概念</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政府凭借国家信用获取财政收入的一种特定方式，是指政府以债务人的身份向个人、企业、社会团体、金融机构以及外国政府借款。借款形式的收入是政府的债务收入，同时也是政府的一种负债，政府必须按借款时的约定方式向债权人支付利息和偿还本金。</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现代经济中，公债既是政府增加收入的一种特殊形式，也是宏观财政管理的一种重要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B404-3958-4BE1-9B24-79293D734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萨缪尔森</a:t>
            </a:r>
            <a:r>
              <a:rPr b="0" lang="en-US" sz="3200" spc="-1" strike="noStrike">
                <a:solidFill>
                  <a:srgbClr val="000000"/>
                </a:solidFill>
                <a:latin typeface="Times New Roman"/>
              </a:rPr>
              <a:t>(Samulson, P.)</a:t>
            </a:r>
            <a:r>
              <a:rPr b="0" lang="zh-CN" sz="3200" spc="-1" strike="noStrike">
                <a:solidFill>
                  <a:srgbClr val="000000"/>
                </a:solidFill>
                <a:latin typeface="Arial"/>
              </a:rPr>
              <a:t>对公债持不否定态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认为在找不到其他办法提高总需求，实现充分就业时，公债可导致更大的资本形成和消费。只有在达到充分就业时，政府支出没有形成资本时，或私人投资减少时，公债才是负担。如果公债与</a:t>
            </a:r>
            <a:r>
              <a:rPr b="0" lang="en-US" sz="3200" spc="-1" strike="noStrike">
                <a:solidFill>
                  <a:srgbClr val="000000"/>
                </a:solidFill>
                <a:latin typeface="Times New Roman"/>
              </a:rPr>
              <a:t>GDP</a:t>
            </a:r>
            <a:r>
              <a:rPr b="0" lang="zh-CN" sz="3200" spc="-1" strike="noStrike">
                <a:solidFill>
                  <a:srgbClr val="000000"/>
                </a:solidFill>
                <a:latin typeface="Arial"/>
              </a:rPr>
              <a:t>同步增长，即公债占</a:t>
            </a:r>
            <a:r>
              <a:rPr b="0" lang="en-US" sz="3200" spc="-1" strike="noStrike">
                <a:solidFill>
                  <a:srgbClr val="000000"/>
                </a:solidFill>
                <a:latin typeface="Times New Roman"/>
              </a:rPr>
              <a:t>GDP</a:t>
            </a:r>
            <a:r>
              <a:rPr b="0" lang="zh-CN" sz="3200" spc="-1" strike="noStrike">
                <a:solidFill>
                  <a:srgbClr val="000000"/>
                </a:solidFill>
                <a:latin typeface="Arial"/>
              </a:rPr>
              <a:t>的比重变化不大，就不足为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247D-77C9-4595-A0A3-8E6164E20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国新剑桥学派的罗宾逊</a:t>
            </a:r>
            <a:r>
              <a:rPr b="0" lang="en-US" sz="3200" spc="-1" strike="noStrike">
                <a:solidFill>
                  <a:srgbClr val="000000"/>
                </a:solidFill>
                <a:latin typeface="Times New Roman"/>
              </a:rPr>
              <a:t>(Robinson, J.)</a:t>
            </a:r>
            <a:r>
              <a:rPr b="0" lang="zh-CN" sz="3200" spc="-1" strike="noStrike">
                <a:solidFill>
                  <a:srgbClr val="000000"/>
                </a:solidFill>
                <a:latin typeface="Arial"/>
              </a:rPr>
              <a:t>反对凯恩斯主张的赤字财政政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认为庞大公债的存在对经济是不利的，一切税收都会产生反常现象和不满情绪，发生有害的副作用，假如为支付公债和利息面大量征税，就很难实现征税的其他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7708-7DA4-47CA-B554-DBC5DF7E3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经济效应</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原理（</a:t>
            </a:r>
            <a:r>
              <a:rPr b="0" lang="en-US" sz="3200" spc="-1" strike="noStrike">
                <a:solidFill>
                  <a:srgbClr val="000000"/>
                </a:solidFill>
                <a:latin typeface="Arial"/>
              </a:rPr>
              <a:t>Ricardian equivalence theorem</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含义：政府公共收入形式的选择，不会引起人们经济行为的调整。无论政府是以征税（一次总付税），还是发行公债的方式来弥补公共支出，其对消费和投资的影响是无差异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F1D1-EB16-4A63-AE6B-53C84B9646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如果为了一年的战费支出而以发行公债的方式征集</a:t>
            </a:r>
            <a:r>
              <a:rPr b="0" lang="en-US" sz="2400" spc="-1" strike="noStrike">
                <a:solidFill>
                  <a:srgbClr val="000000"/>
                </a:solidFill>
                <a:latin typeface="Arial"/>
              </a:rPr>
              <a:t>2 000</a:t>
            </a:r>
            <a:r>
              <a:rPr b="0" lang="zh-CN" sz="2400" spc="-1" strike="noStrike">
                <a:solidFill>
                  <a:srgbClr val="000000"/>
                </a:solidFill>
                <a:latin typeface="Arial"/>
              </a:rPr>
              <a:t>万镑，这就是从国家的生产资本中取去了</a:t>
            </a:r>
            <a:r>
              <a:rPr b="0" lang="en-US" sz="2400" spc="-1" strike="noStrike">
                <a:solidFill>
                  <a:srgbClr val="000000"/>
                </a:solidFill>
                <a:latin typeface="Arial"/>
              </a:rPr>
              <a:t>2 000</a:t>
            </a:r>
            <a:r>
              <a:rPr b="0" lang="zh-CN" sz="2400" spc="-1" strike="noStrike">
                <a:solidFill>
                  <a:srgbClr val="000000"/>
                </a:solidFill>
                <a:latin typeface="Arial"/>
              </a:rPr>
              <a:t>万镑，每年为偿付这种公债利息而征课的</a:t>
            </a:r>
            <a:r>
              <a:rPr b="0" lang="en-US" sz="2400" spc="-1" strike="noStrike">
                <a:solidFill>
                  <a:srgbClr val="000000"/>
                </a:solidFill>
                <a:latin typeface="Arial"/>
              </a:rPr>
              <a:t>100</a:t>
            </a:r>
            <a:r>
              <a:rPr b="0" lang="zh-CN" sz="2400" spc="-1" strike="noStrike">
                <a:solidFill>
                  <a:srgbClr val="000000"/>
                </a:solidFill>
                <a:latin typeface="Arial"/>
              </a:rPr>
              <a:t>万镑，只不过由付这</a:t>
            </a:r>
            <a:r>
              <a:rPr b="0" lang="en-US" sz="2400" spc="-1" strike="noStrike">
                <a:solidFill>
                  <a:srgbClr val="000000"/>
                </a:solidFill>
                <a:latin typeface="Arial"/>
              </a:rPr>
              <a:t>100</a:t>
            </a:r>
            <a:r>
              <a:rPr b="0" lang="zh-CN" sz="2400" spc="-1" strike="noStrike">
                <a:solidFill>
                  <a:srgbClr val="000000"/>
                </a:solidFill>
                <a:latin typeface="Arial"/>
              </a:rPr>
              <a:t>万镑的人手中转移到收这</a:t>
            </a:r>
            <a:r>
              <a:rPr b="0" lang="en-US" sz="2400" spc="-1" strike="noStrike">
                <a:solidFill>
                  <a:srgbClr val="000000"/>
                </a:solidFill>
                <a:latin typeface="Arial"/>
              </a:rPr>
              <a:t>100</a:t>
            </a:r>
            <a:r>
              <a:rPr b="0" lang="zh-CN" sz="2400" spc="-1" strike="noStrike">
                <a:solidFill>
                  <a:srgbClr val="000000"/>
                </a:solidFill>
                <a:latin typeface="Arial"/>
              </a:rPr>
              <a:t>万镑的人手中，也就是由纳税人手中转移到公债债权人手中。实际的开支是那</a:t>
            </a:r>
            <a:r>
              <a:rPr b="0" lang="en-US" sz="2400" spc="-1" strike="noStrike">
                <a:solidFill>
                  <a:srgbClr val="000000"/>
                </a:solidFill>
                <a:latin typeface="Arial"/>
              </a:rPr>
              <a:t>2 000</a:t>
            </a:r>
            <a:r>
              <a:rPr b="0" lang="zh-CN" sz="2400" spc="-1" strike="noStrike">
                <a:solidFill>
                  <a:srgbClr val="000000"/>
                </a:solidFill>
                <a:latin typeface="Arial"/>
              </a:rPr>
              <a:t>万镑，而不是为那</a:t>
            </a:r>
            <a:r>
              <a:rPr b="0" lang="en-US" sz="2400" spc="-1" strike="noStrike">
                <a:solidFill>
                  <a:srgbClr val="000000"/>
                </a:solidFill>
                <a:latin typeface="Arial"/>
              </a:rPr>
              <a:t>2 000</a:t>
            </a:r>
            <a:r>
              <a:rPr b="0" lang="zh-CN" sz="2400" spc="-1" strike="noStrike">
                <a:solidFill>
                  <a:srgbClr val="000000"/>
                </a:solidFill>
                <a:latin typeface="Arial"/>
              </a:rPr>
              <a:t>万镑必须支付的利息。付不付利息都不会使国家增富或变穷。政府可以通过赋税的方式一次征收</a:t>
            </a:r>
            <a:r>
              <a:rPr b="0" lang="en-US" sz="2400" spc="-1" strike="noStrike">
                <a:solidFill>
                  <a:srgbClr val="000000"/>
                </a:solidFill>
                <a:latin typeface="Arial"/>
              </a:rPr>
              <a:t>2 000</a:t>
            </a:r>
            <a:r>
              <a:rPr b="0" lang="zh-CN" sz="2400" spc="-1" strike="noStrike">
                <a:solidFill>
                  <a:srgbClr val="000000"/>
                </a:solidFill>
                <a:latin typeface="Arial"/>
              </a:rPr>
              <a:t>万镑；在这种情形下，就不必每年征课</a:t>
            </a:r>
            <a:r>
              <a:rPr b="0" lang="en-US" sz="2400" spc="-1" strike="noStrike">
                <a:solidFill>
                  <a:srgbClr val="000000"/>
                </a:solidFill>
                <a:latin typeface="Arial"/>
              </a:rPr>
              <a:t>100</a:t>
            </a:r>
            <a:r>
              <a:rPr b="0" lang="zh-CN" sz="2400" spc="-1" strike="noStrike">
                <a:solidFill>
                  <a:srgbClr val="000000"/>
                </a:solidFill>
                <a:latin typeface="Arial"/>
              </a:rPr>
              <a:t>万镑。但这样做，并不会改变这一问题的性质。”</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政治经济学及其赋税原理</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17</a:t>
            </a:r>
            <a:r>
              <a:rPr b="0" lang="zh-CN" sz="2400" spc="-1" strike="noStrike">
                <a:solidFill>
                  <a:srgbClr val="000000"/>
                </a:solidFill>
                <a:latin typeface="Arial"/>
              </a:rPr>
              <a:t>章，</a:t>
            </a:r>
            <a:r>
              <a:rPr b="0" lang="en-US" sz="2400" spc="-1" strike="noStrike">
                <a:solidFill>
                  <a:srgbClr val="000000"/>
                </a:solidFill>
                <a:latin typeface="Arial"/>
              </a:rPr>
              <a:t>1962</a:t>
            </a:r>
            <a:r>
              <a:rPr b="0" lang="zh-CN" sz="2400" spc="-1" strike="noStrike">
                <a:solidFill>
                  <a:srgbClr val="000000"/>
                </a:solidFill>
                <a:latin typeface="Arial"/>
              </a:rPr>
              <a:t>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AC3E-C3AA-4082-B864-CE5A4C081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李嘉图表达了政府征税与举债在经济影响上是一样的思想。当然，李嘉图虽然认为课税与发债一样，并不等于他主张发债。他认为发债会助长政府的浪费心理，所以他反对发行公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定理的一个重要假定是，公债替代征税时所减少的税是总额税，而且减税带来的税负减少均匀地落在每个消费者身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1326-E5AB-4AED-84B3-0E6FFFD4C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9"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定理遇到的难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每个人都会死去，不会按长生不老的假设安排消费和储蓄。要是一些消费者在公债到期偿还之前就去世了，他们就会享受到政府以公债代替征税而带来的减税的好处，从而增加自己的消费支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E82A-C16D-49A8-9B2B-C99529236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巴罗</a:t>
            </a:r>
            <a:r>
              <a:rPr b="0" lang="zh-CN" sz="3200" spc="-1" strike="noStrike">
                <a:solidFill>
                  <a:srgbClr val="000000"/>
                </a:solidFill>
                <a:latin typeface="Times New Roman"/>
              </a:rPr>
              <a:t>（</a:t>
            </a:r>
            <a:r>
              <a:rPr b="0" lang="en-US" sz="3200" spc="-1" strike="noStrike">
                <a:solidFill>
                  <a:srgbClr val="000000"/>
                </a:solidFill>
                <a:latin typeface="Times New Roman"/>
              </a:rPr>
              <a:t>Barro</a:t>
            </a:r>
            <a:r>
              <a:rPr b="0" lang="zh-CN" sz="3200" spc="-1" strike="noStrike">
                <a:solidFill>
                  <a:srgbClr val="000000"/>
                </a:solidFill>
                <a:latin typeface="Times New Roman"/>
              </a:rPr>
              <a:t>，</a:t>
            </a:r>
            <a:r>
              <a:rPr b="0" lang="en-US" sz="3200" spc="-1" strike="noStrike">
                <a:solidFill>
                  <a:srgbClr val="000000"/>
                </a:solidFill>
                <a:latin typeface="Times New Roman"/>
              </a:rPr>
              <a:t>1974</a:t>
            </a:r>
            <a:r>
              <a:rPr b="0" lang="zh-CN" sz="3200" spc="-1" strike="noStrike">
                <a:solidFill>
                  <a:srgbClr val="000000"/>
                </a:solidFill>
                <a:latin typeface="Times New Roman"/>
              </a:rPr>
              <a:t>）</a:t>
            </a:r>
            <a:r>
              <a:rPr b="0" lang="zh-CN" sz="3200" spc="-1" strike="noStrike">
                <a:solidFill>
                  <a:srgbClr val="000000"/>
                </a:solidFill>
                <a:latin typeface="Arial"/>
              </a:rPr>
              <a:t>对李嘉图等价定理难题的解决</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其论点建立在将遗产行为和利他动机相混同的基础上。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消费者具有将财产的一部分遗留给后代的动机，并以利他主义的形式表现出来。</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李嘉图等价定理便会在具有利他动机的消费者死于公债到期之前的情形之下继续成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0295-DFE9-4442-B11D-80C21A00B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不仅要求消费者是利他的，而且要求消费者在遗留财产给后代时必须保证遗产为正值，但在实际生活中，有利他动机的消费者可能为自己的后代遗留负值的财产。</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假定，公债替代征税时所减的税是总额税，减少的税负均匀地落在每个消费者身上，且每个消费者具有相同的边际消费倾向。但实际上，减税的效应不会均匀地落在每个消费者身上，各个消费者之间的边际消费倾向也是不相同的，这就从两方面破坏了等价定理的前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E592-A9A2-463D-8477-22BF2525E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嘉图等价定理假定税收是总额税，认为用公债替代税收只会产生税收总额的变化，而且这一变化以可完全由公债数量的变化抵消。但是，大多数税收并非总额税，而是针对经济行为开征的，因此税收由于公债替代而产生的变化，会使经济行为改变，使等价定理不能成立。尽管并非所有的税收都会产生扭曲效应，但上述状况的确制约着定理的有效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23EA-1E24-4716-8A23-A441CA645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资产效应</a:t>
            </a:r>
            <a:endParaRPr b="0" lang="en-US"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公债发行量的变化，不仅影响国民收入，而且影响居民所持资产的变化。</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和举债是否等价，关键在于：消费者是否把自己持有的政府债券当作其财富的一部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人们因为持有债券而增加消费，说明公债具有资产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9CC3-C8CE-4250-8DA4-A6C3E9C411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特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自愿性：公债的发行和认购建立在认购者自愿的基础上。是否认购、认购多少，完全由认购人自主决定。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有偿性：政府举借公债，到期必须还本付息。</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灵活性：公债的发行与否、采用何种方式发行、发行多少，一般由政府视具体情况而定，既不具有时间上的连续性，也不具有发行数额上的固定性。</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AEFD-4778-4C2C-9090-EC2317B620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和“公债错觉”的概念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错觉：公债的持有者在持有公债时认为是自己的财富增加了，由此可能增加自己的消费需求，因而公债积累与消费的增加相联系。</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认公债的资产效应，就意味着否认否认李嘉图等价定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4743-AA0F-442E-8072-5A84CDDEB7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的经济影响</a:t>
            </a:r>
            <a:endParaRPr b="0" lang="en-US" sz="4400" spc="-1" strike="noStrike">
              <a:solidFill>
                <a:srgbClr val="cc3300"/>
              </a:solidFill>
              <a:latin typeface="Arial"/>
            </a:endParaRPr>
          </a:p>
        </p:txBody>
      </p:sp>
      <p:sp>
        <p:nvSpPr>
          <p:cNvPr id="2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积极影响</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调节总供给与总需求，使社会资金得到充分运用，熨平经济波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广泛吸收社会小额游资于集中用于公共投资，有助于社会经济的发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有效调节金融市场的运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F8DF-BFE2-40C1-B2A3-46FEFDB63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消极影响</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市场上资金一定的情况下，通过挤出效应排挤了一部分私人投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除了一部分由企业个人购买外，如果还通过中央银行承购一部分，中央银行购买公债的过程，也是向流通中投入货币的过程，且通过货币乘数，进一步扩大货币流通，会引起通货膨胀。</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累积的公债使政府支出中的利息费用迅速增加，成为财政的沉重负担，限制了财政政策功能的发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C18F-2740-452A-9744-A66A0B2AC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债政策的利弊权衡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发行环境看，公债发行要首先看其对经济发展有无稳定作用。公债政策在经济衰退和繁荣阶段都可发挥良好的调节作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收入的使用看，公债收入的使用方向不同将对经济产生不同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64F3-A7F1-4670-BEFE-77A015B9B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作用</a:t>
            </a:r>
            <a:endParaRPr b="0" lang="en-US" sz="4400" spc="-1" strike="noStrike">
              <a:solidFill>
                <a:srgbClr val="cc3300"/>
              </a:solidFill>
              <a:latin typeface="Arial"/>
            </a:endParaRPr>
          </a:p>
        </p:txBody>
      </p:sp>
      <p:sp>
        <p:nvSpPr>
          <p:cNvPr id="2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弥补财政赤字 </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过发行公债弥补财政赤字，是公债产生的主要动因，也是现代国家的普遍做法。</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发行公债的方式弥补财政赤字，一般不会影响经济发展，可能产生的副作用也较小。因为：</a:t>
            </a:r>
            <a:r>
              <a:rPr b="0" lang="en-US" sz="2000" spc="-1" strike="noStrike">
                <a:solidFill>
                  <a:srgbClr val="000000"/>
                </a:solidFill>
                <a:latin typeface="Arial"/>
              </a:rPr>
              <a:t>(1)</a:t>
            </a:r>
            <a:r>
              <a:rPr b="0" lang="zh-CN" sz="2000" spc="-1" strike="noStrike">
                <a:solidFill>
                  <a:srgbClr val="000000"/>
                </a:solidFill>
                <a:latin typeface="Arial"/>
              </a:rPr>
              <a:t>发行公债只是部分社会资金的使用权的暂时转移，一般不会导致通货膨胀；</a:t>
            </a:r>
            <a:r>
              <a:rPr b="0" lang="en-US" sz="2000" spc="-1" strike="noStrike">
                <a:solidFill>
                  <a:srgbClr val="000000"/>
                </a:solidFill>
                <a:latin typeface="Arial"/>
              </a:rPr>
              <a:t>(2)</a:t>
            </a:r>
            <a:r>
              <a:rPr b="0" lang="zh-CN" sz="2000" spc="-1" strike="noStrike">
                <a:solidFill>
                  <a:srgbClr val="000000"/>
                </a:solidFill>
                <a:latin typeface="Arial"/>
              </a:rPr>
              <a:t>公债的认购通常遵循自愿的原则，基本上是社会资金运动中游离出来的资金，一般不会对经济发展产生不利的影响。</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当然，对公债弥补财政赤字的功能不能绝对化，因为：</a:t>
            </a:r>
            <a:r>
              <a:rPr b="0" lang="en-US" sz="2000" spc="-1" strike="noStrike">
                <a:solidFill>
                  <a:srgbClr val="000000"/>
                </a:solidFill>
                <a:latin typeface="Arial"/>
              </a:rPr>
              <a:t>(1)</a:t>
            </a:r>
            <a:r>
              <a:rPr b="0" lang="zh-CN" sz="2000" spc="-1" strike="noStrike">
                <a:solidFill>
                  <a:srgbClr val="000000"/>
                </a:solidFill>
                <a:latin typeface="Arial"/>
              </a:rPr>
              <a:t>财政赤字过大，形成债台高筑，最终会导致财政收支的恶性循环；</a:t>
            </a:r>
            <a:r>
              <a:rPr b="0" lang="en-US" sz="2000" spc="-1" strike="noStrike">
                <a:solidFill>
                  <a:srgbClr val="000000"/>
                </a:solidFill>
                <a:latin typeface="Arial"/>
              </a:rPr>
              <a:t>(2)</a:t>
            </a:r>
            <a:r>
              <a:rPr b="0" lang="zh-CN" sz="2000" spc="-1" strike="noStrike">
                <a:solidFill>
                  <a:srgbClr val="000000"/>
                </a:solidFill>
                <a:latin typeface="Arial"/>
              </a:rPr>
              <a:t>社会的闲置资金是有限的，国家集中过多往往会侵蚀经济主体的必要资金，从而降低社会的投资和消费水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E6E0-9A83-407C-AD69-3C00CB19D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筹集建设资金 </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发行公债有明确的目的和用途，公债资金用于经济建设。比如，我国</a:t>
            </a:r>
            <a:r>
              <a:rPr b="0" lang="en-US" sz="2400" spc="-1" strike="noStrike">
                <a:solidFill>
                  <a:srgbClr val="000000"/>
                </a:solidFill>
                <a:latin typeface="Arial"/>
              </a:rPr>
              <a:t>1987</a:t>
            </a:r>
            <a:r>
              <a:rPr b="0" lang="zh-CN" sz="2400" spc="-1" strike="noStrike">
                <a:solidFill>
                  <a:srgbClr val="000000"/>
                </a:solidFill>
                <a:latin typeface="Arial"/>
              </a:rPr>
              <a:t>年开始发行重点建设债券和重点企业建设债券、</a:t>
            </a:r>
            <a:r>
              <a:rPr b="0" lang="en-US" sz="2400" spc="-1" strike="noStrike">
                <a:solidFill>
                  <a:srgbClr val="000000"/>
                </a:solidFill>
                <a:latin typeface="Arial"/>
              </a:rPr>
              <a:t>1998</a:t>
            </a:r>
            <a:r>
              <a:rPr b="0" lang="zh-CN" sz="2400" spc="-1" strike="noStrike">
                <a:solidFill>
                  <a:srgbClr val="000000"/>
                </a:solidFill>
                <a:latin typeface="Arial"/>
              </a:rPr>
              <a:t>年实施积极财政政策中增发的国债，都是用于重点项目的建设。</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政府为弥补财政赤字而发行的公债没有具体规定用于经济建设上，但财政赤字本身可能就具有生产性。因为，财政赤字通常是由资本预算不平衡造成的，也就是说资本性支出超支造成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0C3C-4C40-4031-8EBA-AD510B6E0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3"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节经济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国家财政的重要组成部分，是对</a:t>
            </a:r>
            <a:r>
              <a:rPr b="0" lang="en-US" sz="2800" spc="-1" strike="noStrike">
                <a:solidFill>
                  <a:srgbClr val="000000"/>
                </a:solidFill>
                <a:latin typeface="Arial"/>
              </a:rPr>
              <a:t>GDP</a:t>
            </a:r>
            <a:r>
              <a:rPr b="0" lang="zh-CN" sz="2800" spc="-1" strike="noStrike">
                <a:solidFill>
                  <a:srgbClr val="000000"/>
                </a:solidFill>
                <a:latin typeface="Arial"/>
              </a:rPr>
              <a:t>的再分配，反映了社会资源的重新配置。公债资金用于投资或消费，就会改变社会积累与消费的比例关系；公债发行规模也具有宏观经济稳定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市场</a:t>
            </a:r>
            <a:endParaRPr b="0" lang="en-US" sz="4400" spc="-1" strike="noStrike">
              <a:solidFill>
                <a:srgbClr val="cc3300"/>
              </a:solidFill>
              <a:latin typeface="Arial"/>
            </a:endParaRPr>
          </a:p>
        </p:txBody>
      </p:sp>
      <p:sp>
        <p:nvSpPr>
          <p:cNvPr id="275" name=""/>
          <p:cNvSpPr txBox="1"/>
          <p:nvPr/>
        </p:nvSpPr>
        <p:spPr>
          <a:xfrm>
            <a:off x="285840" y="1571400"/>
            <a:ext cx="8540640" cy="3886200"/>
          </a:xfrm>
          <a:prstGeom prst="rect">
            <a:avLst/>
          </a:prstGeom>
          <a:noFill/>
          <a:ln w="0">
            <a:noFill/>
          </a:ln>
        </p:spPr>
        <p:txBody>
          <a:bodyPr anchor="t">
            <a:normAutofit fontScale="91000"/>
          </a:bodyPr>
          <a:p>
            <a:pPr marL="312120" indent="-31212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发行市场</a:t>
            </a:r>
            <a:endParaRPr b="0" lang="en-US" sz="32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的原则</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景气发行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市场秩序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行成本最小原则</a:t>
            </a:r>
            <a:endParaRPr b="0" lang="en-US" sz="24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价格</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折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溢价发行</a:t>
            </a:r>
            <a:endParaRPr b="0" lang="en-US" sz="2400" spc="-1" strike="noStrike">
              <a:solidFill>
                <a:srgbClr val="000000"/>
              </a:solidFill>
              <a:latin typeface="Arial"/>
            </a:endParaRPr>
          </a:p>
        </p:txBody>
      </p:sp>
      <p:sp>
        <p:nvSpPr>
          <p:cNvPr id="27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FD80-C49C-4EBC-80BD-4CA84C1D3F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57120" y="714240"/>
            <a:ext cx="8540640" cy="5153040"/>
          </a:xfrm>
          <a:prstGeom prst="rect">
            <a:avLst/>
          </a:prstGeom>
          <a:noFill/>
          <a:ln w="0">
            <a:noFill/>
          </a:ln>
        </p:spPr>
        <p:txBody>
          <a:bodyPr anchor="t">
            <a:normAutofit/>
          </a:bodyPr>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利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融市场的利率水平</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资金供给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信用状况</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期限的长短</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息形式及利息支付的方式</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收益出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募拍卖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连续经销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销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56F9-BDC9-42DD-9E92-D73BFB2A5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304920" y="1428480"/>
            <a:ext cx="8540640" cy="44384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流通市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组织结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内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外交易市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交易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回购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权交易市场</a:t>
            </a:r>
            <a:endParaRPr b="0" lang="en-US" sz="2400" spc="-1" strike="noStrike">
              <a:solidFill>
                <a:srgbClr val="000000"/>
              </a:solidFill>
              <a:latin typeface="Arial"/>
            </a:endParaRPr>
          </a:p>
        </p:txBody>
      </p:sp>
      <p:sp>
        <p:nvSpPr>
          <p:cNvPr id="2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2337-7894-4EB8-8030-DA85191E8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4A3D-3899-40BE-9657-68C03F30D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与私债</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主体是政府部门，一般将中央政府举借的债务称为</a:t>
            </a:r>
            <a:r>
              <a:rPr b="1" lang="zh-CN" sz="2400" spc="-1" strike="noStrike">
                <a:solidFill>
                  <a:srgbClr val="000000"/>
                </a:solidFill>
                <a:latin typeface="楷体_GB2312"/>
              </a:rPr>
              <a:t>国债</a:t>
            </a:r>
            <a:r>
              <a:rPr b="0" lang="zh-CN" sz="2400" spc="-1" strike="noStrike">
                <a:solidFill>
                  <a:srgbClr val="000000"/>
                </a:solidFill>
                <a:latin typeface="楷体_GB2312"/>
              </a:rPr>
              <a:t>，地方政府举借的债务称为</a:t>
            </a:r>
            <a:r>
              <a:rPr b="1" lang="zh-CN" sz="2400" spc="-1" strike="noStrike">
                <a:solidFill>
                  <a:srgbClr val="000000"/>
                </a:solidFill>
                <a:latin typeface="楷体_GB2312"/>
              </a:rPr>
              <a:t>地方债</a:t>
            </a:r>
            <a:r>
              <a:rPr b="0" lang="zh-CN" sz="2400" spc="-1" strike="noStrike">
                <a:solidFill>
                  <a:srgbClr val="000000"/>
                </a:solidFill>
                <a:latin typeface="楷体_GB2312"/>
              </a:rPr>
              <a:t>。</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个人和企业等私人部门举借的债务称为</a:t>
            </a:r>
            <a:r>
              <a:rPr b="1" lang="zh-CN" sz="2400" spc="-1" strike="noStrike">
                <a:solidFill>
                  <a:srgbClr val="000000"/>
                </a:solidFill>
                <a:latin typeface="楷体_GB2312"/>
              </a:rPr>
              <a:t>私债</a:t>
            </a:r>
            <a:r>
              <a:rPr b="0" lang="zh-CN" sz="2400" spc="-1" strike="noStrike">
                <a:solidFill>
                  <a:srgbClr val="000000"/>
                </a:solidFill>
                <a:latin typeface="仿宋_GB2312"/>
                <a:ea typeface="仿宋_GB2312"/>
              </a:rPr>
              <a:t>。</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作为国家信用的主要形式，公债是在政府职能扩展以后出现的。由于公债能够迅速筹集资金，因而被各国政府广泛应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产生的基本条件是商品经济和信用经济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1C84-6EF9-4E71-961E-394ED7CFC6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地域分类：内债和外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分类：生产性和非生产性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期限分类：短期、中期、长期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流动性分类：上市和非上市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主体分类：中央政府和地方政府公债</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1CB7-9F8B-4373-8247-9FFBE8C17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内债和外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内债</a:t>
            </a:r>
            <a:r>
              <a:rPr b="0" lang="zh-CN" sz="2400" spc="-1" strike="noStrike">
                <a:solidFill>
                  <a:srgbClr val="000000"/>
                </a:solidFill>
                <a:latin typeface="楷体_GB2312"/>
              </a:rPr>
              <a:t>是政府在本国境内发行的公债，其认购主体是国内法人和本国公民，债权人为金融机构、机关团体、企业和居民个人，其发行与偿还一般以本国货币为计量单位。</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外债</a:t>
            </a:r>
            <a:r>
              <a:rPr b="0" lang="zh-CN" sz="2400" spc="-1" strike="noStrike">
                <a:solidFill>
                  <a:srgbClr val="000000"/>
                </a:solidFill>
                <a:latin typeface="楷体_GB2312"/>
              </a:rPr>
              <a:t>是本国政府在境外举借的债务。债权人可以是外国政府、国际金融组织、外国银行、外国企业、团体组织和个人，通常以债权国通货为计量单位，也可以以双方同意的第三国通货作为计量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7CEF-5EA6-4695-8A83-E79227A80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性和非生产性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性公债也称建设公债，政府利用公债收入用于生产建设，主要是基础设施建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生产性公债是指政府将公债收入作用于非生产性支出，如社会保障、行政管理等方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划分公债，对于分析公债的自愿配置以及公债负担的归宿有重要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0F32-61C7-4C10-8702-1385DA605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短期、中期和长期公债</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短期公债</a:t>
            </a:r>
            <a:r>
              <a:rPr b="0" lang="zh-CN" sz="2800" spc="-1" strike="noStrike">
                <a:solidFill>
                  <a:srgbClr val="000000"/>
                </a:solidFill>
                <a:latin typeface="楷体_GB2312"/>
              </a:rPr>
              <a:t>多指</a:t>
            </a:r>
            <a:r>
              <a:rPr b="0" lang="en-US" sz="2800" spc="-1" strike="noStrike">
                <a:solidFill>
                  <a:srgbClr val="000000"/>
                </a:solidFill>
                <a:latin typeface="楷体_GB2312"/>
              </a:rPr>
              <a:t>1</a:t>
            </a:r>
            <a:r>
              <a:rPr b="0" lang="zh-CN" sz="2800" spc="-1" strike="noStrike">
                <a:solidFill>
                  <a:srgbClr val="000000"/>
                </a:solidFill>
                <a:latin typeface="楷体_GB2312"/>
              </a:rPr>
              <a:t>年以内到期的公债，其特点是周期短、流动性强，近似货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中期公债</a:t>
            </a:r>
            <a:r>
              <a:rPr b="0" lang="zh-CN" sz="2800" spc="-1" strike="noStrike">
                <a:solidFill>
                  <a:srgbClr val="000000"/>
                </a:solidFill>
                <a:latin typeface="楷体_GB2312"/>
              </a:rPr>
              <a:t>一般指</a:t>
            </a:r>
            <a:r>
              <a:rPr b="0" lang="en-US" sz="2800" spc="-1" strike="noStrike">
                <a:solidFill>
                  <a:srgbClr val="000000"/>
                </a:solidFill>
                <a:latin typeface="楷体_GB2312"/>
              </a:rPr>
              <a:t>1</a:t>
            </a:r>
            <a:r>
              <a:rPr b="0" lang="zh-CN" sz="2800" spc="-1" strike="noStrike">
                <a:solidFill>
                  <a:srgbClr val="000000"/>
                </a:solidFill>
                <a:latin typeface="楷体_GB2312"/>
              </a:rPr>
              <a:t>年以上</a:t>
            </a:r>
            <a:r>
              <a:rPr b="0" lang="en-US" sz="2800" spc="-1" strike="noStrike">
                <a:solidFill>
                  <a:srgbClr val="000000"/>
                </a:solidFill>
                <a:latin typeface="楷体_GB2312"/>
              </a:rPr>
              <a:t>10</a:t>
            </a:r>
            <a:r>
              <a:rPr b="0" lang="zh-CN" sz="2800" spc="-1" strike="noStrike">
                <a:solidFill>
                  <a:srgbClr val="000000"/>
                </a:solidFill>
                <a:latin typeface="楷体_GB2312"/>
              </a:rPr>
              <a:t>年以内的债券，它与短期和长期公债相配合，有利于吸收资金，既可以用来弥补财政赤字，又可以作为重点建设资金的来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长期公债</a:t>
            </a:r>
            <a:r>
              <a:rPr b="0" lang="zh-CN" sz="2800" spc="-1" strike="noStrike">
                <a:solidFill>
                  <a:srgbClr val="000000"/>
                </a:solidFill>
                <a:latin typeface="楷体_GB2312"/>
              </a:rPr>
              <a:t>是指期限在</a:t>
            </a:r>
            <a:r>
              <a:rPr b="0" lang="en-US" sz="2800" spc="-1" strike="noStrike">
                <a:solidFill>
                  <a:srgbClr val="000000"/>
                </a:solidFill>
                <a:latin typeface="楷体_GB2312"/>
              </a:rPr>
              <a:t>10</a:t>
            </a:r>
            <a:r>
              <a:rPr b="0" lang="zh-CN" sz="2800" spc="-1" strike="noStrike">
                <a:solidFill>
                  <a:srgbClr val="000000"/>
                </a:solidFill>
                <a:latin typeface="楷体_GB2312"/>
              </a:rPr>
              <a:t>年以上的公债，一般用于特大的经济建设项目或应付突发事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09:44:05Z</dcterms:created>
  <dc:creator>admin</dc:creator>
  <dc:description/>
  <dc:language>en-US</dc:language>
  <cp:lastModifiedBy>杨海燕</cp:lastModifiedBy>
  <dcterms:modified xsi:type="dcterms:W3CDTF">2016-09-17T04:12:28Z</dcterms:modified>
  <cp:revision>18</cp:revision>
  <dc:subject/>
  <dc:title>财政学 （Public Finance)</dc:title>
</cp:coreProperties>
</file>